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C61-8765-4D15-9288-461B31E3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521-CC1D-46D8-8372-64BB0144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B9C-3474-4C27-B597-55CE4A47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BD8-569E-4843-87F8-7EB7F681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6608-F9CD-4C62-86E7-F25FFB83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DEE1-6CBD-4768-B0C8-165CF2D8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A218-53F5-4451-A4ED-3547888A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BB21-F89C-44A0-899D-1070102C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04BF-B8E4-4946-BBFC-F2218B61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3CBE-A952-4DD2-AE2E-157BD9A3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9B9A-070B-42E1-ACC1-EEDECDAA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57D-A862-4416-9F99-31064313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029E-878B-48EC-A529-72698BA6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1EC0-8379-4CAA-80DC-3C8ED28C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C3D4-D52A-4F3A-B3D3-C9022AD6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05AE-084F-48D4-AA66-713A3A37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0817-A504-4E53-A7A9-610B910D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E28-B7F5-4554-9540-E0C13B48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8CC-6B47-4666-A963-CE859056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57A-C44F-4CD5-A74C-B928D5A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FD5-47A5-4BF2-919B-FCC06370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2CF-2639-4F77-A3C3-60EB0A56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08B-19CC-4584-BD67-4662F37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FC1-BDF7-47AB-AFD3-FAB4B1B9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1E07-5981-4883-AD0C-3213FCEEAC2B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DD8A-08EC-4430-B053-A04C76F7417B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Fungi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Fungi are largely multicellular.  They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heterotrophi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ke food rot, for instance.  The fungus is secreting chemicals (called enzymes) onto the nectarines or meat.  The enzymes break down the target’s cells, and the mold absorbs the “mush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Fungal Diversity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ungi inclu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ytri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Zygomyco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7757640" y="347652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Fungal Diversity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ungi inclu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idiomyco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comyco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lanta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lants are largely multicellular.  They are autotrophic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use the energy from sunlight to turn carbon dioxide and water into glucose (sugar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ol fact: A tree starts out as a small seed, and by the end of its life, it is a huge organism.  Where did all the atoms that make the tree come from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lanta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ant Divers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alga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ryophytes (liverworts, hornworts, mosse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lanta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nt Divers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teridophytes (club mosses, fern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ycads, Ginkg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lanta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nt Divers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if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gnoliophytes (flowering plant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Animali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nimals are multicellular and heterotrophic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remainder of the classification unit will be learning about the major phyla of Animalia, and the major classes of the animal phylum Chordata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will see a lot of animal diversity in the coming week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ell Wall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lants and Fungi have cell wall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nimals and Protists don’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44:09Z</dcterms:created>
  <dc:creator>Rebecca Stang</dc:creator>
  <dc:description/>
  <dc:language>en-US</dc:language>
  <cp:lastModifiedBy>Rebecca Stang</cp:lastModifiedBy>
  <dcterms:modified xsi:type="dcterms:W3CDTF">2010-03-28T16:43:37Z</dcterms:modified>
  <cp:revision>72</cp:revision>
  <dc:subject/>
  <dc:title>Domains &amp; Kingdoms</dc:title>
</cp:coreProperties>
</file>